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B6D-9536-4CB9-83F4-6CA206BC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684-DBF3-4AD3-99E5-DB6CA90B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3EC-23BC-4ECA-B757-1B1D455A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D164-B12C-453A-AC63-0B453231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CDCF-8006-4852-9CFF-CF079103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7BFD-6901-4E26-8668-10AC49EB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7811-0F35-4018-A66D-5096797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DDE3-55DC-40B1-B708-3CBBC6AD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498D-9237-4273-80A3-5C1C731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716A-6A15-4F0C-85B2-FA4B586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7847-79FF-4EB8-B43A-C277E8C1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7BD-0BEF-4530-A7C3-A8802EAA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C815-64B4-42B0-B3C2-84EB08BC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1BDE-D23C-46F5-A696-60F3B70E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C7E1-822B-4E4A-883D-729C669A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FF4C-B50F-498D-95F3-B6E39DB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557-196A-4D55-A6E1-61BD740B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306C-FAAB-4D83-BEB9-98777FD7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3B4C-71C7-4222-B31A-EFE4E826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8E42-F717-4154-ABE1-62299B21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AE22-4E56-4580-AC7D-E08E8C78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62E8-51BF-4F0A-A0AE-AF77459F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065-26B3-4D52-A582-E4305E32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4F4A-7BE9-486B-9862-02110AC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E71F-8226-4CB0-8348-2B3AD573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C78F-1BB3-470A-88C3-941BF732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7FB54-82A2-4A6F-B3AC-15FB3779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2ED9-D465-403B-9CA5-7BCF39F6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540C-FF1C-4366-96A3-C9885570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1847-9FC6-4782-B549-D969E322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BE8A8-E140-4AF4-B707-9A501257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F5F3-A60D-4D23-84D6-82B88D57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E4F2-988C-4C64-B8E0-F6FDD48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B7B-7988-412E-B796-46A724D9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6CB8-49F7-44DF-AAA1-076984D6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E444-4D95-4774-9AE1-D96463E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99B9-53AF-4241-9D54-3DA9D1E3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53EF-627A-465F-B5F3-5D2D1ADD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A8B2-A838-405E-AB03-6817BF5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AC95-8D5B-4E09-887A-00BE3F75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9082-D180-47D0-A523-C72A553D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4012-FBF1-49E2-B504-24D020FE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13F6-6D6F-49DE-836F-ED0FD6C5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DE344-938C-4F7F-B95B-293A6851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0E3-DCC5-4085-A1B0-106E283B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F0319-DACF-4E66-89E6-E9F1B7F4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D5D86-8798-4941-A359-4F573D4F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7C6F9-6AEB-4297-BD8F-1F07F2A7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C799-71A6-47B3-A70B-6E86147D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1A3D6-44CE-488B-95A1-0293ED0D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D187-617A-4716-8D95-F466873D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56C5-47E0-4E5B-B474-FA649EB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C23A-1EEC-4462-AD9D-3A7ECA12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5F5E-C6CF-4C55-AC14-E9C7D789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9952-3C3A-4028-B15E-5B09F3B3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77F-B7D7-446B-9EF7-89302567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E546-4A08-47AA-8001-A45C2F7D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F39AF-82CB-410E-AACE-3ED8C17F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F2A6-9891-42C9-AFB0-0DF02493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A7EA-FC57-4E02-A555-2F41B3CD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5485-D486-4697-8F9E-C4D9EAE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0A33-9AA1-41FF-93EB-6087F4F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26B60-D235-475F-8BEA-6AD2C28A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8CB75-9216-431F-A4A5-9AEC3F2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B530-0EA1-4683-A084-6866207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DB107-7F6A-4591-87C1-70CC09B8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692-110A-487E-A6EE-480BC532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722B9-EF2C-49B4-BAF8-A3F169D1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B36D-3ED2-4C21-904E-8BB024F8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CDD11-6A25-452B-BB9E-C03DD570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EDD9-1CC6-42D8-BA69-801034C2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AE493-EAFC-4459-A5C8-20064409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487EE-4369-4F75-B01B-A72CC023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E9887-5BE2-42D5-885A-984AFF92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43861-3761-497E-835B-5D588F6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4A583-ECEE-4F32-BB1F-F227D0D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0A4BB-2980-4E56-BF22-DDEF7E9F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F09-D547-46B6-8A92-80C5B82C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1A2AF-0A48-4AC3-A777-7D66DBDF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7C2B3-15C6-4D5D-A44D-4FDF5EE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66530-8908-4B5D-B69F-B8CA8736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5EFF3-A306-43C3-983C-E95CB761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366D-42A3-4D3B-A1E4-CDA5C2F4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65A3F-BD26-4BFC-8EB1-C2B7BE43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33259-9AA0-4877-9BA6-F025C07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58D5-4612-4B68-9010-6E253A7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C1105-9620-4B2D-A90A-5092E5C0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15A1-5AB1-4F1F-BF2D-98D7040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0DAA-3C46-441E-B1A8-0F686E7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BC62E-8C07-4D48-8D2C-EC4CD1A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48AD0-3761-45F6-9F77-C71E8964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305F-7605-4496-A715-795D36A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F789-5A8E-4E01-9FF4-9794D28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9AFB-E96F-4ACC-ACD3-5884A8E2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7199-1ACE-46BB-A6A5-5990FE56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3399-E857-482F-A8E3-55769A71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CC1C-DBCD-4875-A8E9-AA5E634E098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B79-8089-42A6-82E8-19CEFDB691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3A82-2E97-47E4-B7AD-595F36EA9F7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E8B0-6403-49C9-B82A-14BE15173D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DA5-F213-4CB7-B470-17E921DA7C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6CD4-A8AE-4714-B554-64BBB0D599B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FEF-5D48-4299-B532-3278CFE39A0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33CB-133B-46B2-B206-F4D7A283E8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371" name="Rectangle 3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2" name="Rectangle 4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8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Rounded Rectangle 16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Rounded Rectangle 17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ounded Rectangle 19"/>
          <p:cNvSpPr/>
          <p:nvPr/>
        </p:nvSpPr>
        <p:spPr>
          <a:xfrm>
            <a:off x="1828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ounded Rectangle 21"/>
          <p:cNvSpPr/>
          <p:nvPr/>
        </p:nvSpPr>
        <p:spPr>
          <a:xfrm>
            <a:off x="18288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ounded Rectangle 22"/>
          <p:cNvSpPr/>
          <p:nvPr/>
        </p:nvSpPr>
        <p:spPr>
          <a:xfrm>
            <a:off x="6629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ounded Rectangle 23"/>
          <p:cNvSpPr/>
          <p:nvPr/>
        </p:nvSpPr>
        <p:spPr>
          <a:xfrm>
            <a:off x="6934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Rounded Rectangle 24"/>
          <p:cNvSpPr/>
          <p:nvPr/>
        </p:nvSpPr>
        <p:spPr>
          <a:xfrm>
            <a:off x="6629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10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389" name="Rectangle 3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Rectangle 4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Rectangle 6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Rectangle 7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Oval 8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5" name="Oval 9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96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Rounded Rectangle 16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Rounded Rectangle 17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ounded Rectangle 19"/>
          <p:cNvSpPr/>
          <p:nvPr/>
        </p:nvSpPr>
        <p:spPr>
          <a:xfrm>
            <a:off x="1828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ounded Rectangle 21"/>
          <p:cNvSpPr/>
          <p:nvPr/>
        </p:nvSpPr>
        <p:spPr>
          <a:xfrm>
            <a:off x="18288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ounded Rectangle 22"/>
          <p:cNvSpPr/>
          <p:nvPr/>
        </p:nvSpPr>
        <p:spPr>
          <a:xfrm>
            <a:off x="6629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Rounded Rectangle 23"/>
          <p:cNvSpPr/>
          <p:nvPr/>
        </p:nvSpPr>
        <p:spPr>
          <a:xfrm>
            <a:off x="6934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Rounded Rectangle 24"/>
          <p:cNvSpPr/>
          <p:nvPr/>
        </p:nvSpPr>
        <p:spPr>
          <a:xfrm>
            <a:off x="6629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ounded Rectangle 20"/>
          <p:cNvSpPr/>
          <p:nvPr/>
        </p:nvSpPr>
        <p:spPr>
          <a:xfrm>
            <a:off x="18288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Rounded Rectangle 25"/>
          <p:cNvSpPr/>
          <p:nvPr/>
        </p:nvSpPr>
        <p:spPr>
          <a:xfrm>
            <a:off x="2133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ounded Rectangle 26"/>
          <p:cNvSpPr/>
          <p:nvPr/>
        </p:nvSpPr>
        <p:spPr>
          <a:xfrm>
            <a:off x="21337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ounded Rectangle 27"/>
          <p:cNvSpPr/>
          <p:nvPr/>
        </p:nvSpPr>
        <p:spPr>
          <a:xfrm>
            <a:off x="12952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Rounded Rectangle 28"/>
          <p:cNvSpPr/>
          <p:nvPr/>
        </p:nvSpPr>
        <p:spPr>
          <a:xfrm>
            <a:off x="9907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Rounded Rectangle 29"/>
          <p:cNvSpPr/>
          <p:nvPr/>
        </p:nvSpPr>
        <p:spPr>
          <a:xfrm>
            <a:off x="7696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Rounded Rectangle 30"/>
          <p:cNvSpPr/>
          <p:nvPr/>
        </p:nvSpPr>
        <p:spPr>
          <a:xfrm>
            <a:off x="69343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Rounded Rectangle 31"/>
          <p:cNvSpPr/>
          <p:nvPr/>
        </p:nvSpPr>
        <p:spPr>
          <a:xfrm>
            <a:off x="6629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Rounded Rectangle 32"/>
          <p:cNvSpPr/>
          <p:nvPr/>
        </p:nvSpPr>
        <p:spPr>
          <a:xfrm>
            <a:off x="6934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4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16" name="Rectangle 5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3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Rounded Rectangle 15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Rounded Rectangle 16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Rounded Rectangle 17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Rounded Rectangle 18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ounded Rectangle 19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34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8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9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1" name="Rounded Rectangle 11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Rounded Rectangle 12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Rounded Rectangle 13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Rounded Rectangle 14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Rounded Rectangle 15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Rounded Rectangle 16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Rounded Rectangle 17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Rounded Rectangle 18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9" name="Group 22"/>
          <p:cNvGrpSpPr/>
          <p:nvPr/>
        </p:nvGrpSpPr>
        <p:grpSpPr>
          <a:xfrm>
            <a:off x="533520" y="609480"/>
            <a:ext cx="2685960" cy="4496040"/>
            <a:chOff x="533520" y="609480"/>
            <a:chExt cx="2685960" cy="4496040"/>
          </a:xfrm>
        </p:grpSpPr>
        <p:pic>
          <p:nvPicPr>
            <p:cNvPr id="450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2685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Arc 21"/>
            <p:cNvSpPr/>
            <p:nvPr/>
          </p:nvSpPr>
          <p:spPr>
            <a:xfrm>
              <a:off x="1371600" y="22860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52" name="Rounded Rectangle 23"/>
          <p:cNvSpPr/>
          <p:nvPr/>
        </p:nvSpPr>
        <p:spPr>
          <a:xfrm>
            <a:off x="137160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Rounded Rectangle 24"/>
          <p:cNvSpPr/>
          <p:nvPr/>
        </p:nvSpPr>
        <p:spPr>
          <a:xfrm>
            <a:off x="1676520" y="140004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ounded Rectangle 25"/>
          <p:cNvSpPr/>
          <p:nvPr/>
        </p:nvSpPr>
        <p:spPr>
          <a:xfrm>
            <a:off x="198108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Rounded Rectangle 26"/>
          <p:cNvSpPr/>
          <p:nvPr/>
        </p:nvSpPr>
        <p:spPr>
          <a:xfrm>
            <a:off x="1676520" y="10954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59" name="Rectangle 5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4" name="Oval 10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5" name="Oval 11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6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Rounded Rectangle 15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Rounded Rectangle 16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Rounded Rectangle 17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Rounded Rectangle 18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Rounded Rectangle 19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77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8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9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0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1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84" name="Rounded Rectangle 11"/>
          <p:cNvSpPr/>
          <p:nvPr/>
        </p:nvSpPr>
        <p:spPr>
          <a:xfrm>
            <a:off x="914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Rounded Rectangle 12"/>
          <p:cNvSpPr/>
          <p:nvPr/>
        </p:nvSpPr>
        <p:spPr>
          <a:xfrm>
            <a:off x="914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Rounded Rectangle 13"/>
          <p:cNvSpPr/>
          <p:nvPr/>
        </p:nvSpPr>
        <p:spPr>
          <a:xfrm>
            <a:off x="1219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Rounded Rectangle 14"/>
          <p:cNvSpPr/>
          <p:nvPr/>
        </p:nvSpPr>
        <p:spPr>
          <a:xfrm>
            <a:off x="1219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Rounded Rectangle 15"/>
          <p:cNvSpPr/>
          <p:nvPr/>
        </p:nvSpPr>
        <p:spPr>
          <a:xfrm>
            <a:off x="914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ounded Rectangle 16"/>
          <p:cNvSpPr/>
          <p:nvPr/>
        </p:nvSpPr>
        <p:spPr>
          <a:xfrm>
            <a:off x="1981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Rounded Rectangle 17"/>
          <p:cNvSpPr/>
          <p:nvPr/>
        </p:nvSpPr>
        <p:spPr>
          <a:xfrm>
            <a:off x="16765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Rounded Rectangle 18"/>
          <p:cNvSpPr/>
          <p:nvPr/>
        </p:nvSpPr>
        <p:spPr>
          <a:xfrm>
            <a:off x="16765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Rounded Rectangle 19"/>
          <p:cNvSpPr/>
          <p:nvPr/>
        </p:nvSpPr>
        <p:spPr>
          <a:xfrm>
            <a:off x="68580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Rounded Rectangle 20"/>
          <p:cNvSpPr/>
          <p:nvPr/>
        </p:nvSpPr>
        <p:spPr>
          <a:xfrm>
            <a:off x="71629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Rounded Rectangle 21"/>
          <p:cNvSpPr/>
          <p:nvPr/>
        </p:nvSpPr>
        <p:spPr>
          <a:xfrm>
            <a:off x="68580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ounded Rectangle 22"/>
          <p:cNvSpPr/>
          <p:nvPr/>
        </p:nvSpPr>
        <p:spPr>
          <a:xfrm>
            <a:off x="12193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Rounded Rectangle 23"/>
          <p:cNvSpPr/>
          <p:nvPr/>
        </p:nvSpPr>
        <p:spPr>
          <a:xfrm>
            <a:off x="76201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Rounded Rectangle 24"/>
          <p:cNvSpPr/>
          <p:nvPr/>
        </p:nvSpPr>
        <p:spPr>
          <a:xfrm>
            <a:off x="76201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Rounded Rectangle 25"/>
          <p:cNvSpPr/>
          <p:nvPr/>
        </p:nvSpPr>
        <p:spPr>
          <a:xfrm>
            <a:off x="6858000" y="26668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Rounded Rectangle 26"/>
          <p:cNvSpPr/>
          <p:nvPr/>
        </p:nvSpPr>
        <p:spPr>
          <a:xfrm>
            <a:off x="71629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Rounded Rectangle 27"/>
          <p:cNvSpPr/>
          <p:nvPr/>
        </p:nvSpPr>
        <p:spPr>
          <a:xfrm>
            <a:off x="68580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Rounded Rectangle 28"/>
          <p:cNvSpPr/>
          <p:nvPr/>
        </p:nvSpPr>
        <p:spPr>
          <a:xfrm>
            <a:off x="71629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Rounded Rectangle 29"/>
          <p:cNvSpPr/>
          <p:nvPr/>
        </p:nvSpPr>
        <p:spPr>
          <a:xfrm>
            <a:off x="6400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Rounded Rectangle 30"/>
          <p:cNvSpPr/>
          <p:nvPr/>
        </p:nvSpPr>
        <p:spPr>
          <a:xfrm>
            <a:off x="76201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Rounded Rectangle 31"/>
          <p:cNvSpPr/>
          <p:nvPr/>
        </p:nvSpPr>
        <p:spPr>
          <a:xfrm>
            <a:off x="79246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Rounded Rectangle 32"/>
          <p:cNvSpPr/>
          <p:nvPr/>
        </p:nvSpPr>
        <p:spPr>
          <a:xfrm>
            <a:off x="76201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Rounded Rectangle 33"/>
          <p:cNvSpPr/>
          <p:nvPr/>
        </p:nvSpPr>
        <p:spPr>
          <a:xfrm>
            <a:off x="79246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Rounded Rectangle 34"/>
          <p:cNvSpPr/>
          <p:nvPr/>
        </p:nvSpPr>
        <p:spPr>
          <a:xfrm>
            <a:off x="7924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509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0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1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5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16" name="Rounded Rectangle 11"/>
          <p:cNvSpPr/>
          <p:nvPr/>
        </p:nvSpPr>
        <p:spPr>
          <a:xfrm>
            <a:off x="9907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Rounded Rectangle 12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Rounded Rectangle 13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9" name="Group 14"/>
          <p:cNvGrpSpPr/>
          <p:nvPr/>
        </p:nvGrpSpPr>
        <p:grpSpPr>
          <a:xfrm>
            <a:off x="533520" y="609480"/>
            <a:ext cx="2685960" cy="4496040"/>
            <a:chOff x="533520" y="609480"/>
            <a:chExt cx="2685960" cy="4496040"/>
          </a:xfrm>
        </p:grpSpPr>
        <p:pic>
          <p:nvPicPr>
            <p:cNvPr id="520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2685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Arc 16"/>
            <p:cNvSpPr/>
            <p:nvPr/>
          </p:nvSpPr>
          <p:spPr>
            <a:xfrm>
              <a:off x="1371600" y="22860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22" name="Rounded Rectangle 17"/>
          <p:cNvSpPr/>
          <p:nvPr/>
        </p:nvSpPr>
        <p:spPr>
          <a:xfrm>
            <a:off x="1371600" y="144792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Rounded Rectangle 18"/>
          <p:cNvSpPr/>
          <p:nvPr/>
        </p:nvSpPr>
        <p:spPr>
          <a:xfrm>
            <a:off x="1676520" y="144792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Rounded Rectangle 19"/>
          <p:cNvSpPr/>
          <p:nvPr/>
        </p:nvSpPr>
        <p:spPr>
          <a:xfrm>
            <a:off x="1981080" y="144792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Rounded Rectangle 20"/>
          <p:cNvSpPr/>
          <p:nvPr/>
        </p:nvSpPr>
        <p:spPr>
          <a:xfrm>
            <a:off x="1523880" y="11714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Rounded Rectangle 21"/>
          <p:cNvSpPr/>
          <p:nvPr/>
        </p:nvSpPr>
        <p:spPr>
          <a:xfrm>
            <a:off x="1828800" y="11714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Rounded Rectangle 22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Rounded Rectangle 23"/>
          <p:cNvSpPr/>
          <p:nvPr/>
        </p:nvSpPr>
        <p:spPr>
          <a:xfrm>
            <a:off x="67816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Rounded Rectangle 24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Rounded Rectangle 25"/>
          <p:cNvSpPr/>
          <p:nvPr/>
        </p:nvSpPr>
        <p:spPr>
          <a:xfrm>
            <a:off x="70866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Rounded Rectangle 26"/>
          <p:cNvSpPr/>
          <p:nvPr/>
        </p:nvSpPr>
        <p:spPr>
          <a:xfrm>
            <a:off x="67816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Rounded Rectangle 27"/>
          <p:cNvSpPr/>
          <p:nvPr/>
        </p:nvSpPr>
        <p:spPr>
          <a:xfrm>
            <a:off x="7696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1371600" y="990720"/>
            <a:ext cx="6400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5 + (-6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7 – (-10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5 + 8 – (+7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12 + 7 – 8 – (-4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4:57:09Z</dcterms:created>
  <dc:creator>Jennifer Schwinghammer</dc:creator>
  <dc:description/>
  <dc:language>en-US</dc:language>
  <cp:lastModifiedBy>Jennifer Schwinghammer</cp:lastModifiedBy>
  <dcterms:modified xsi:type="dcterms:W3CDTF">2008-05-31T00:28:05Z</dcterms:modified>
  <cp:revision>12</cp:revision>
  <dc:subject/>
  <dc:title>Slide 1</dc:title>
</cp:coreProperties>
</file>